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1C42-83D4-4DB5-9A34-D634322C7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D9D2-2FD6-4F62-B403-127A0E51B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2FF-A04C-4B8C-9F7B-886F6BBBD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C8F-ADAD-4923-A339-1C450C14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C1D-2A40-444D-AC7E-A744DBC2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782-37E8-4A9B-BFF3-B0725069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6E5-DFA0-4F1A-A700-9CD15734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4A5-7CF1-4EF1-8A05-C187311B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E0A-8E98-4FE1-A925-222253F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7A9-70CE-4744-9588-2133863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BD2-4339-44F5-B5D2-2DCF0239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3D6-4C10-4708-A808-7E5B8097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E1F-157F-4675-81B8-30BF2E2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533-D413-4501-AEA8-94699952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02D-E0A6-4F30-A3E3-C962AC3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383D-3D94-48BB-BE35-5031FDF1F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hutterstock_13307008.jpg"/>
          <p:cNvPicPr/>
          <p:nvPr/>
        </p:nvPicPr>
        <p:blipFill>
          <a:blip r:embed="rId1"/>
          <a:stretch/>
        </p:blipFill>
        <p:spPr>
          <a:xfrm>
            <a:off x="0" y="762120"/>
            <a:ext cx="9171000" cy="611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hutterstock_13307008.jpg"/>
          <p:cNvPicPr/>
          <p:nvPr/>
        </p:nvPicPr>
        <p:blipFill>
          <a:blip r:embed="rId2"/>
          <a:stretch/>
        </p:blipFill>
        <p:spPr>
          <a:xfrm>
            <a:off x="0" y="0"/>
            <a:ext cx="9171000" cy="6113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0160" y="4565520"/>
            <a:ext cx="87138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맑은 고딕"/>
              </a:rPr>
              <a:t>KAINOS</a:t>
            </a:r>
            <a:r>
              <a:rPr b="1" lang="ko-KR" sz="4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맑은 고딕"/>
              </a:rPr>
              <a:t>HEALING</a:t>
            </a:r>
            <a:r>
              <a:rPr b="1" lang="ko-KR" sz="4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맑은 고딕"/>
              </a:rPr>
              <a:t>MINIST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8640" y="6024600"/>
            <a:ext cx="605484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카이노스 치유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역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5805360"/>
            <a:ext cx="9171000" cy="733680"/>
          </a:xfrm>
          <a:prstGeom prst="rect">
            <a:avLst/>
          </a:prstGeom>
          <a:solidFill>
            <a:srgbClr val="195815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430200" y="5848200"/>
            <a:ext cx="512640" cy="636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-1106640" y="-12524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-888840" y="-1379520"/>
            <a:ext cx="183960" cy="36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301680" y="1098720"/>
            <a:ext cx="80071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6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마음의 치유</a:t>
            </a:r>
            <a:r>
              <a:rPr b="1" lang="en-US" sz="6000" spc="-1" strike="noStrike">
                <a:solidFill>
                  <a:srgbClr val="000000"/>
                </a:solidFill>
                <a:latin typeface="맑은 고딕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01680" y="2046240"/>
            <a:ext cx="8007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속사람과 겉사람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왜 겉사람을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복종시켜야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할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1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육신의 생각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은 사망이요 영의 생각은 생명과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평안이니라 육신의 생각은 하나님과 원수가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되나니 이는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하나님의 법에 굴복치 아니할뿐 </a:t>
            </a:r>
            <a:br>
              <a:rPr sz="3200"/>
            </a:b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아니라 할 수도 없음이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8:6-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너희가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신대로 살면 반드시 죽을 것이로되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영으로써 몸의 행실을 죽이면 살리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8: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은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하나님을 대적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한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70120"/>
            <a:ext cx="849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신의 생각은 하나님과 원수가 되나니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는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하나님의 법에 굴복치 아니할뿐 아니라 할 수도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없음이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롬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8: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간음하는 여자들이여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세상과 벗된 것이 하나님의원수임을 알지 못하느뇨</a:t>
            </a:r>
            <a:r>
              <a:rPr b="0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런즉 누구든지 세상과 벗이 되고자 하는 자는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스스로 하나님과 원수되게 하는 것이니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4: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왜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 끝까지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 깨어있어야 할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“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형제들아 너희는 삼가 혹 너희 중에 누가 믿지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아니하는 악한 마음을 품고 살아계신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하나님에게서 떨어질까 조심할 것이요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오직 오늘이라 일컫는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동안에 매일 피차 권면하여 너희 중에 누구든지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죄의 유혹으로 완고하게 되지 않도록 하라 우리가 </a:t>
            </a:r>
            <a:r>
              <a:rPr b="1" lang="ko-KR" sz="32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시작할 때에 확신한 것을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끝까지 견고히 잡고 </a:t>
            </a:r>
            <a:br>
              <a:rPr sz="3200"/>
            </a:b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있으면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리스도와 함께 참여한 자가 되리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3:12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구원의 안내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성령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4600" y="16128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성령께서 신자안에 내주하시는 이유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성령님의 사역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죄인을 거듭나게 하신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000" spc="-1" strike="noStrike">
                <a:solidFill>
                  <a:srgbClr val="ff0000"/>
                </a:solidFill>
                <a:latin typeface="Calibri"/>
                <a:ea typeface="맑은 고딕"/>
              </a:rPr>
              <a:t>중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죄를 이길 수 있는 능력을 주신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000" spc="-1" strike="noStrike">
                <a:solidFill>
                  <a:srgbClr val="ff0000"/>
                </a:solidFill>
                <a:latin typeface="Calibri"/>
                <a:ea typeface="맑은 고딕"/>
              </a:rPr>
              <a:t>성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마지막 날에 신자를 부활시키신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000" spc="-1" strike="noStrike">
                <a:solidFill>
                  <a:srgbClr val="ff0000"/>
                </a:solidFill>
                <a:latin typeface="Calibri"/>
                <a:ea typeface="맑은 고딕"/>
              </a:rPr>
              <a:t>영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속사람이 겉사람을 지배함으로 </a:t>
            </a:r>
            <a:r>
              <a:rPr b="1" lang="ko-KR" sz="3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끝까지 구원의 </a:t>
            </a:r>
            <a:br>
              <a:rPr sz="3000"/>
            </a:br>
            <a:r>
              <a:rPr b="1" lang="ko-KR" sz="3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길을 걸어갈 수 있는 비결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은 성령님께 있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ight Arrow 3"/>
          <p:cNvSpPr/>
          <p:nvPr/>
        </p:nvSpPr>
        <p:spPr>
          <a:xfrm>
            <a:off x="644400" y="33764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Arrow 4"/>
          <p:cNvSpPr/>
          <p:nvPr/>
        </p:nvSpPr>
        <p:spPr>
          <a:xfrm>
            <a:off x="644400" y="43131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ight Arrow 5"/>
          <p:cNvSpPr/>
          <p:nvPr/>
        </p:nvSpPr>
        <p:spPr>
          <a:xfrm>
            <a:off x="644400" y="3827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Owner\Desktop\사람그림.jpeg"/>
          <p:cNvPicPr/>
          <p:nvPr/>
        </p:nvPicPr>
        <p:blipFill>
          <a:blip r:embed="rId1"/>
          <a:srcRect l="11547" t="6208" r="17849" b="12227"/>
          <a:stretch/>
        </p:blipFill>
        <p:spPr>
          <a:xfrm flipH="1">
            <a:off x="63360" y="1003320"/>
            <a:ext cx="4943520" cy="57103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옛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새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11560" y="1871640"/>
            <a:ext cx="4803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영의 변화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는 즉각적이며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완전하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자기 죄를 회개하고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예수님을 나의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구세주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(Savior)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와 주인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(Lord)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으로 영접하는 순간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영이 거듭나게 되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중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 </a:t>
            </a:r>
            <a:br>
              <a:rPr sz="3200"/>
            </a:b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새사람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 된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5"/>
          <p:cNvSpPr/>
          <p:nvPr/>
        </p:nvSpPr>
        <p:spPr>
          <a:xfrm>
            <a:off x="1947960" y="3619440"/>
            <a:ext cx="689040" cy="689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432080" y="339408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03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그러므로 우리가 낙심하지 아니하노니 우리의 </a:t>
            </a:r>
            <a:r>
              <a:rPr b="1" lang="ko-KR" sz="2600" spc="-1" strike="noStrike">
                <a:solidFill>
                  <a:srgbClr val="ff0000"/>
                </a:solidFill>
                <a:latin typeface="Calibri"/>
                <a:ea typeface="맑은 고딕"/>
              </a:rPr>
              <a:t>겉사람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은 </a:t>
            </a:r>
            <a:br>
              <a:rPr sz="2600"/>
            </a:b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낡아지나 우리의 </a:t>
            </a:r>
            <a:r>
              <a:rPr b="1" lang="ko-KR" sz="2600" spc="-1" strike="noStrike">
                <a:solidFill>
                  <a:srgbClr val="0070c0"/>
                </a:solidFill>
                <a:latin typeface="Calibri"/>
                <a:ea typeface="맑은 고딕"/>
              </a:rPr>
              <a:t>속사람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은 날로 새로워지도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고후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4:1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안의 두 사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속사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의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거듭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영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의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1" lang="ko-KR" sz="26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변화되지 않은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ff0000"/>
                </a:solidFill>
                <a:latin typeface="Calibri"/>
                <a:ea typeface="맑은 고딕"/>
              </a:rPr>
              <a:t>혼과 육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는 </a:t>
            </a:r>
            <a:r>
              <a:rPr b="1" lang="ko-KR" sz="2600" spc="-1" strike="noStrike">
                <a:solidFill>
                  <a:srgbClr val="0070c0"/>
                </a:solidFill>
                <a:latin typeface="Calibri"/>
                <a:ea typeface="맑은 고딕"/>
              </a:rPr>
              <a:t>하나님의 본성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과</a:t>
            </a:r>
            <a:r>
              <a:rPr b="1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자신의 </a:t>
            </a:r>
            <a:r>
              <a:rPr b="1" lang="ko-KR" sz="2600" spc="-1" strike="noStrike">
                <a:solidFill>
                  <a:srgbClr val="ff0000"/>
                </a:solidFill>
                <a:latin typeface="Calibri"/>
                <a:ea typeface="맑은 고딕"/>
              </a:rPr>
              <a:t>죄성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을 가지고 살게 된다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영의 변화는 즉각적인 반면에 </a:t>
            </a:r>
            <a:r>
              <a:rPr b="1" lang="ko-KR" sz="26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혼의 변화는 점진적이다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5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이 강한 상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Owner\Desktop\사람그림.jpeg"/>
          <p:cNvPicPr/>
          <p:nvPr/>
        </p:nvPicPr>
        <p:blipFill>
          <a:blip r:embed="rId1"/>
          <a:srcRect l="13257" t="17575" r="18983" b="16942"/>
          <a:stretch/>
        </p:blipFill>
        <p:spPr>
          <a:xfrm>
            <a:off x="4606920" y="2413080"/>
            <a:ext cx="3398760" cy="342720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1927080" y="2362320"/>
            <a:ext cx="1219320" cy="1218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179800" y="4114800"/>
            <a:ext cx="761760" cy="7621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5"/>
          <p:cNvSpPr/>
          <p:nvPr/>
        </p:nvSpPr>
        <p:spPr>
          <a:xfrm>
            <a:off x="2163600" y="5394240"/>
            <a:ext cx="762120" cy="76212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5791320" y="3429000"/>
            <a:ext cx="1333440" cy="127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own Arrow 16"/>
          <p:cNvSpPr/>
          <p:nvPr/>
        </p:nvSpPr>
        <p:spPr>
          <a:xfrm flipH="1">
            <a:off x="2459880" y="373392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own Arrow 17"/>
          <p:cNvSpPr/>
          <p:nvPr/>
        </p:nvSpPr>
        <p:spPr>
          <a:xfrm flipH="1">
            <a:off x="2459880" y="502920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2"/>
          <p:cNvSpPr/>
          <p:nvPr/>
        </p:nvSpPr>
        <p:spPr>
          <a:xfrm>
            <a:off x="6257880" y="2590920"/>
            <a:ext cx="399960" cy="457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 Arrow 6"/>
          <p:cNvSpPr/>
          <p:nvPr/>
        </p:nvSpPr>
        <p:spPr>
          <a:xfrm>
            <a:off x="6410160" y="3105000"/>
            <a:ext cx="95400" cy="228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1684440" y="236232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701720" y="390996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689120" y="520524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5602320" y="350532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5603760" y="223848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6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이 강한 상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Owner\Desktop\사람그림.jpeg"/>
          <p:cNvPicPr/>
          <p:nvPr/>
        </p:nvPicPr>
        <p:blipFill>
          <a:blip r:embed="rId1"/>
          <a:srcRect l="0" t="0" r="7540" b="0"/>
          <a:stretch/>
        </p:blipFill>
        <p:spPr>
          <a:xfrm>
            <a:off x="4097160" y="1467000"/>
            <a:ext cx="4876920" cy="527508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>
            <a:off x="6248520" y="2133720"/>
            <a:ext cx="990360" cy="10666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7"/>
          <p:cNvSpPr/>
          <p:nvPr/>
        </p:nvSpPr>
        <p:spPr>
          <a:xfrm>
            <a:off x="6502320" y="3895560"/>
            <a:ext cx="496800" cy="419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676520" y="2341440"/>
            <a:ext cx="1295280" cy="12956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238400" y="4162320"/>
            <a:ext cx="876240" cy="8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2533680" y="4162320"/>
            <a:ext cx="838080" cy="8384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own Arrow 13"/>
          <p:cNvSpPr/>
          <p:nvPr/>
        </p:nvSpPr>
        <p:spPr>
          <a:xfrm>
            <a:off x="1676520" y="38116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Down Arrow 14"/>
          <p:cNvSpPr/>
          <p:nvPr/>
        </p:nvSpPr>
        <p:spPr>
          <a:xfrm>
            <a:off x="2779560" y="381168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Down Arrow 4"/>
          <p:cNvSpPr/>
          <p:nvPr/>
        </p:nvSpPr>
        <p:spPr>
          <a:xfrm>
            <a:off x="6637320" y="3373560"/>
            <a:ext cx="196920" cy="377640"/>
          </a:xfrm>
          <a:prstGeom prst="downArrow">
            <a:avLst>
              <a:gd name="adj1" fmla="val 50000"/>
              <a:gd name="adj2" fmla="val 4978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828720" y="4006800"/>
            <a:ext cx="168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1471680" y="239076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2095560" y="4006800"/>
            <a:ext cx="168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908680" y="2057400"/>
            <a:ext cx="168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902200" y="352728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과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의 대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내가 이르노니 너희는 성령을 좇아 행하라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리하면 육체의 욕심을 이루지 아니하리라 </a:t>
            </a:r>
            <a:br>
              <a:rPr sz="3200"/>
            </a:b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체의 소욕은 성령을 거스리고 성령의 소욕은 </a:t>
            </a:r>
            <a:br>
              <a:rPr sz="3200"/>
            </a:b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체를 거스리나니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 둘이 서로 대적함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너희의 원하는 것을 하지 못하게 하려 함이니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갈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5:16-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성령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의 소욕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의 소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육체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의 소욕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의 소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왜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혼과 영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을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분리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해야 할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하나님의 말씀은 살아있고 힘이 있어서 어떤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양날칼보다도 더 날카롭습니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.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래서 사람속을 꿰뚫어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혼과 영을 갈라내고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관절과 골수를 갈라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놓기까지 하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마음에 품은 생각과 의도를 밝혀냅니다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”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히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4:12 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새번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말씀은 혼과 영을 분리해서 나의 </a:t>
            </a:r>
            <a:r>
              <a:rPr b="1" lang="ko-KR" sz="32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겉사람을 </a:t>
            </a:r>
            <a:br>
              <a:rPr sz="3200"/>
            </a:br>
            <a:r>
              <a:rPr b="1" lang="ko-KR" sz="32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볼 수 있게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해 준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사람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의 특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81532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 세상이나 세상에 있는 것들을 사랑치 말라 누구든지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세상을 사랑하면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아버지의 사랑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 속에 있지 아니하니 이는 세상에 있는 모든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것이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신의 정욕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과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안목의 정욕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과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이생의 자랑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니 다 아버지께로 좇아 온 것이 아니요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세상으로 좇아 온 것이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요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2:15-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육신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육신의 생각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육체의 소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으로 살아가는 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육신에 있는 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육신을 따르는 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구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이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그러나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아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829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런즉 누구든지 그리스도 안에 있으면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새로운 피조물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라 이전 것은 지나갔으니 보라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새 것이 되었도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고후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5: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미 새롭게 되었다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중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칭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새롭게 되는 중이다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자기부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성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e46c0a"/>
                </a:solidFill>
                <a:latin typeface="Calibri"/>
                <a:ea typeface="맑은 고딕"/>
              </a:rPr>
              <a:t>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새롭게 될 것이다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부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영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6:51:04Z</dcterms:created>
  <dc:creator>sarah</dc:creator>
  <dc:description/>
  <dc:language>en-US</dc:language>
  <cp:lastModifiedBy>Sarah Choi</cp:lastModifiedBy>
  <dcterms:modified xsi:type="dcterms:W3CDTF">2017-11-26T22:04:13Z</dcterms:modified>
  <cp:revision>141</cp:revision>
  <dc:subject/>
  <dc:title>치유 세미나</dc:title>
</cp:coreProperties>
</file>